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90A6-8FEF-4340-B563-3BDA93DFE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14C3-48AC-438A-97ED-EBF1A4555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0B01-E102-4F50-BB9D-65CFAF8EE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FD5C-AA89-4243-9C86-51767B2E6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98FC-E999-4870-B827-277810E1F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63F7-8153-4DD3-B908-0B57944E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7040-A25E-4D46-B27F-BD441FAD5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1CFF-6A5B-46CB-9DDF-1731DD893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9EE5-F526-4C9A-AA1E-2F4D71A11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645C-B136-41EE-8292-1CC1FD9F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6F22-4B6B-4E99-B18B-DA944D52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FBA5-9956-4679-B877-DA9EE32D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18A7F-1EB6-4E90-8449-B67EBA51F3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d the perimeter and 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33720" y="2743200"/>
            <a:ext cx="297180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63040" y="23986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67440" y="30081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81840" y="2398680"/>
            <a:ext cx="12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mete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50040" y="3902040"/>
            <a:ext cx="584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09680" y="4495680"/>
            <a:ext cx="99072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63760" y="403848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324480" y="4419720"/>
            <a:ext cx="320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312600" y="4319640"/>
            <a:ext cx="12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met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Unit 7: Measure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:  Students will find the area of a tri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:  Students will find the area of a triang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minder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ea of a rectangle = Length x wi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ea of a parallelogram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ea = base x heigh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= </a:t>
            </a:r>
            <a:r>
              <a:rPr b="0" lang="en-US" sz="3200" spc="-1" strike="noStrike">
                <a:solidFill>
                  <a:srgbClr val="ff66ff"/>
                </a:solidFill>
                <a:latin typeface="Comic Sans MS"/>
              </a:rPr>
              <a:t>b</a:t>
            </a: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05520" y="3962520"/>
            <a:ext cx="3200400" cy="1828800"/>
          </a:xfrm>
          <a:prstGeom prst="parallelogram">
            <a:avLst>
              <a:gd name="adj" fmla="val 6117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248520" y="39625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248520" y="5410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248520" y="4495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2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943600" y="5867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ff"/>
                </a:solidFill>
                <a:latin typeface="Comic Sans MS"/>
              </a:rPr>
              <a:t>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rea of a triang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752480" y="2743200"/>
          <a:ext cx="3911760" cy="9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743200"/>
                    <a:ext cx="391176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2133720" y="4038480"/>
          <a:ext cx="1409760" cy="93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4038480"/>
                    <a:ext cx="140976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5257800" y="3581280"/>
            <a:ext cx="3048120" cy="190512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781680" y="35812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781680" y="5181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162920" y="5181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4419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5638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057400" y="5638680"/>
          <a:ext cx="1981080" cy="812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7400" y="5638680"/>
                    <a:ext cx="198108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2666880" y="5181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8480" y="152280"/>
            <a:ext cx="800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:  Students will find the area of a tri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3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 the Area of the tri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1.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= 4ft  h= 11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438280" y="2895480"/>
          <a:ext cx="1168560" cy="9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895480"/>
                    <a:ext cx="116856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2565360" y="1371600"/>
          <a:ext cx="914400" cy="37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65360" y="1371600"/>
                    <a:ext cx="91440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2209680" y="3962520"/>
          <a:ext cx="1600200" cy="939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3962520"/>
                    <a:ext cx="1600200" cy="93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2362320" y="4952880"/>
          <a:ext cx="1168200" cy="939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62320" y="4952880"/>
                    <a:ext cx="116820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2286000" y="6019920"/>
          <a:ext cx="1574640" cy="507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86000" y="6019920"/>
                    <a:ext cx="15746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680760" y="228600"/>
            <a:ext cx="800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:  Students will find the area of a tri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 the Area of the triangle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)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2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2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.5c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4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)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5y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8y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)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12k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4k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28480" y="228600"/>
            <a:ext cx="800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:  Students will find the area of a tri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 the area of the tri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" y="2895480"/>
            <a:ext cx="1981080" cy="1371600"/>
          </a:xfrm>
          <a:prstGeom prst="rtTriangl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2514600"/>
            <a:ext cx="2133360" cy="167652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14600" y="4876920"/>
            <a:ext cx="3276720" cy="1447560"/>
          </a:xfrm>
          <a:prstGeom prst="triangle">
            <a:avLst>
              <a:gd name="adj" fmla="val 7156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430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4792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29400" y="25146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629400" y="3809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3809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76920" y="48769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76920" y="6019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6019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828800" y="42670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3276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72200" y="3276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24480" y="42670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91120" y="55627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1120" y="64911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50440" y="255600"/>
            <a:ext cx="800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:  Students will find the area of a tri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rse 2:  Workbook page 149 all and 1-3 on 15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19:22:37Z</dcterms:created>
  <dc:creator>ccps</dc:creator>
  <dc:description/>
  <dc:language>en-US</dc:language>
  <cp:lastModifiedBy>ccps</cp:lastModifiedBy>
  <dcterms:modified xsi:type="dcterms:W3CDTF">2010-02-24T19:22:59Z</dcterms:modified>
  <cp:revision>1</cp:revision>
  <dc:subject/>
  <dc:title>Find the perimeter and area</dc:title>
</cp:coreProperties>
</file>